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DE6-B798-4174-9190-AB13D00F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F78-164E-4192-983C-8B567C08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A20-FB72-40EA-9598-6C1EB49D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BA8-D115-4645-BCC9-B91265F0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61C-6236-4E74-91EF-563A0022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4A6-E19E-46D8-A515-9DF15CBE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B9B-9061-4FB0-8B33-C43AA0E2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9282-03E0-4221-AF13-3AAF056C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F54-B60B-472D-B255-4091BEF5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CA3-5586-4BE6-9A6F-1A970DA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F60-E283-42FC-9898-0E71923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E05-0298-487D-B9A4-36032BEF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BB89-2837-4983-9603-8D52CD08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289080" y="936360"/>
            <a:ext cx="161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06668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Homework and Pract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3716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Varies Based On Grad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Parental 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Should Be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ssigned, It Should Be Commented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0160" y="457200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y Requires Focus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Should Adapt And Shape What Students Le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5:41:21Z</dcterms:created>
  <dc:creator>workstation</dc:creator>
  <dc:description/>
  <dc:language>en-US</dc:language>
  <cp:lastModifiedBy>workstation</cp:lastModifiedBy>
  <dcterms:modified xsi:type="dcterms:W3CDTF">2010-08-03T15:59:52Z</dcterms:modified>
  <cp:revision>2</cp:revision>
  <dc:subject/>
  <dc:title>Homework and Practice</dc:title>
</cp:coreProperties>
</file>